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94B1-5A9A-48EB-86ED-9EC6D7DF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6B2-9BCD-40FF-97B8-1738CD6C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AAA-87D5-43FF-9A17-3BD5D9FE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E7E-A5F4-455B-8E25-5C0DF0ED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51F-35F6-4AB5-AE0C-EEEE6B5F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C12-6546-4F45-A1AA-FCD8CE8D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6E27-7EAB-4F28-9D1F-DF4CD345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870-108A-4880-BEE8-1D30ABD5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B9E1-7274-46A2-8225-9CC765BB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B5B-3F62-4C5A-B7C1-C893924A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AE9-6788-46DD-BFAC-37878A13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7B9E-8AD1-4188-A9A5-E8657B87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DF35-9360-441F-BA01-8236ABB19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360" y="152280"/>
            <a:ext cx="9372600" cy="746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d - deg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chtemperatur (f) – high 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eftemperatur (f) – low 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 Wetterbericht – weather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e Wettervorhersage – weather forec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e Nachricht – the n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e Nachrichten – the news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 Sonderbericht – special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t –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zlich Willkommen  bei – welcome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ese – this (wee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nal – cha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ung – cha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n – fr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hen – to look for (see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suchst du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e sieht er/sie/es aus? (What does he look like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5410080" y="23623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e ist er?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hat is he lik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8:37:31Z</dcterms:created>
  <dc:creator>ahart</dc:creator>
  <dc:description/>
  <dc:language>en-US</dc:language>
  <cp:lastModifiedBy>ahart</cp:lastModifiedBy>
  <dcterms:modified xsi:type="dcterms:W3CDTF">2012-11-08T17:56:40Z</dcterms:modified>
  <cp:revision>22</cp:revision>
  <dc:subject/>
  <dc:title>Slide 1</dc:title>
</cp:coreProperties>
</file>